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9B9-D1F9-480E-B44C-EDF5DF05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D8D-F3D4-495D-8798-813CE589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68B-074B-4C85-B79F-A192B633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F47-0C9C-49F9-8E9D-15AA6867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CE7-9DD4-435F-AB21-DE87B31B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7C6-1417-40BD-8B7A-92CA6A00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3E7-7CEF-4969-91B9-C95ABB3D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879-5C39-48D4-89A5-82C777E7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33B-4726-4155-A9EB-AFFF5BC0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16D-FBB3-4FEA-B078-6E0D33D8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D45-6986-4AFB-807D-3EBB109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64C-5C80-4D7D-9FA8-2B321354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12FE-057A-42BA-B650-21724852A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4 Láska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st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d tvojím tró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môžem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je meno 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slavo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Láska večná, č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Ježišu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oja nádej 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tále pri mne st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z hriechu pú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š ma vytrhnú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íťaziť dáš v boj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o mnou, prosím, b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Ó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cieľu ma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 kde budem ve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ô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teba z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Láska, večná, č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Ježišu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útecha vždy 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tále pri mne st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ľ, tráp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č ma ticho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áč ma cestou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lostivo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zemi som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útnik a h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o o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y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m raz voj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Láska, večná, č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Ježišu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omoc verná, 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tále pri mne st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 pravý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deš na zem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áč ma vziať do svoj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íše večn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56:13Z</dcterms:modified>
  <cp:revision>21</cp:revision>
  <dc:subject/>
  <dc:title>Je veľký náš Pán, on slávy je Kráľ Nech do všetkých strán  spev vrúcnych znie chvál.</dc:title>
</cp:coreProperties>
</file>